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200-837E-4E5C-B4F7-5B3C070D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C25-7974-490F-A4F8-BBE008D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31E-24CF-41FC-89BD-198B6127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405-8BA8-4F34-9C05-C6C59899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AE2-590F-4B8D-995B-5263CB5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451-3EAE-43FC-AA5E-319259F1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AB1-6277-4A63-B59B-9B06A00B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1A8-70DD-4922-9710-A134E502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542-10CD-4308-979A-F3B8C691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FD8-38E1-4A10-957D-15DD8F7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445-35F9-410D-AE07-06F4F406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218-51A7-4BFE-AB9D-94010E9A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E1B-5D0E-48D3-A607-479E6D86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Tougher than N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495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y Sarah Whe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Problem</a:t>
            </a:r>
            <a:r>
              <a:rPr b="0" lang="en-US" sz="4800" spc="-1" strike="noStrike">
                <a:solidFill>
                  <a:srgbClr val="ff0066"/>
                </a:solidFill>
                <a:latin typeface="Bradley Hand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What brand of fingernail polish stays on the long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Hypothes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I predict that the Avon brand of fingernail polish will stay on the lon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5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ngernail p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ngernail polish rem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Q-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First I used fingernail polish remover on the people that already had on fingernail po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Second I applied 1 coat of fingernail polish and let it stay on for 1 week without them doing anything except for their norm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Next I took pictures of each girls hands after they got painte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adley Hand ITC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and after they got paint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adley Hand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After 1 week I repeated this process once again. Until they had on the polish for 2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Love my Nails lasted the lon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The Avon brand of fingernail polish didn’t last as long as what I expected. I thought that the Love my Nails brand wouldn’t stay on for very long I never would have expected that it would have lasted the lon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Conclusion</a:t>
            </a:r>
            <a:r>
              <a:rPr b="0" lang="en-US" sz="4800" spc="-1" strike="noStrike">
                <a:solidFill>
                  <a:srgbClr val="ff0066"/>
                </a:solidFill>
                <a:latin typeface="Bradley Hand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After painting the nails twice I was able to come to the Conclusion that Love my Nails is the longest lasting brand of fingernail po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I started out with 5 girls and 5 different brands of fingernail polish, but I had to change that and use only 4 girls and 4 different brands of fingernail po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I learned that it is important to make sure that everyone can keep on the fingernail polish for 2 weeks. I was glad that I took pictures of everyone's hands individually instead of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D376</cp:lastModifiedBy>
  <dcterms:modified xsi:type="dcterms:W3CDTF">2010-05-03T19:44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